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9.gif" ContentType="image/gif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C93-C1B0-4161-A793-E45D8DF6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9D3-098C-4039-84FB-2765E51C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FB7-9D6C-404D-B49D-6C2B6E5B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E51-E496-42D9-8D13-71C89893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F89B-A57C-4DA2-A3BC-35E2C5B4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589C-FD18-41E2-9A9B-640028CC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FBFE-5B2C-46D1-9AAA-E21A1EAF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D030-D7FD-49F0-8DA4-18B2CFC5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D135-ECC0-45EF-A3CB-E29538F3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309B-60FA-447E-807E-1BFC0336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96C9-3CE9-420C-A6EF-DF54D743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EDE-1A2B-4D85-98BD-B6848BBC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98D8-5B82-4FDA-A931-9D8D26E7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0377-5E8C-4AA7-9359-28A3EB8A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9B1E-93F8-4BF9-BF21-31F365E2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349A-4964-4111-9559-4A5295A7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19A1-8EF4-4B01-BC58-862B1CE1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75893-7750-44DE-9908-6F6A48BD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F728D-3D48-46D2-A573-C9D487D6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170B4-F946-45DC-AB61-3D427264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3705-893E-41FC-A586-56CCABAE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AE74C-315E-468F-9B9B-892B574E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F14-768D-4BA6-A795-3E5D7EC2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34593-0A18-46C7-B3A8-31E92631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50CAB-4692-445D-805F-DA4085E5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BCB49-C917-4307-B093-AA50847E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78064-E983-493D-AF4A-AB79670B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8CC0F-02B0-4CCC-BC1E-01AEB37F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3BEC3-2C6A-4346-A3E8-82FC0C1A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A52F6-0772-41C3-8C88-3FEE2CBC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2A7B2-D816-4A74-84F1-BDFA49A7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1611E-4751-41BD-B0E0-385ADF7F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FA3BE-ECDA-401A-82C8-9D36E9B6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FAC-66E7-4935-90D3-81EAA308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B670D-43D0-4419-8CD4-62B9A9C4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B2E76-7D7D-4929-83A1-63B8499C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9E4B-AA15-488C-B00D-2F333CA6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66BE0-8574-4062-B97A-DBF0E166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FF8BC-205B-4FDC-A16F-BDDF68BB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1F67A-CBE5-46F6-AAC6-DAA2DFF3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B715F-28DB-4359-94C3-14BDABE5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E0163-8BA0-4C8A-A946-044336AA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B8C02-779F-4C71-9CAA-26653AA9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296B6-5B25-40A4-8DF2-931A5C58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92B7-3BDF-4F42-8D08-2AE401CC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2A7A7-1E27-42C6-9E7B-BA041706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31E26-AD51-4BFD-858E-B3E0EE47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9F815-44FA-4EC2-9BD3-C0F114D8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DFC09-93F1-46FC-A8B5-2DEA499B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99300-B7D8-43B5-8D3F-6641A1DD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8F373-5E64-4FC9-9F7A-C542E400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953FC-E6A6-43BE-A418-2DA5AA62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91879-0700-4B23-AFCB-39E5301B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65314-6D81-4F10-8B99-64E2F023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24F8A-148E-47C7-842F-A3B543A0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423-CE15-48AE-9FE9-6550FF0D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E31E4-A8B2-4FA4-B02C-D5A46FC7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94E-F27C-4CC8-8CA7-BEBC4A08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F7B-DF02-4820-8963-7ED4AFE3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4E6-B47E-481E-937C-4040498E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4339-9BEE-4E96-BC24-D131A9F86BE2}" type="slidenum">
              <a:rPr b="0" lang="en-A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69E2-985E-4CBF-AF1A-743357FCE8C7}" type="slidenum">
              <a:rPr b="0" lang="en-A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5A61-D982-49E7-BC3E-43ED59AA64F8}" type="slidenum">
              <a:rPr b="0" lang="en-A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22D9-777F-4FFF-B9DB-2F7A78EB9041}" type="slidenum">
              <a:rPr b="0" lang="en-A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485A-489B-43C7-8B44-67A5294BB312}" type="slidenum">
              <a:rPr b="0" lang="en-A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My Documents\at_dawn.jpg"/>
          <p:cNvPicPr/>
          <p:nvPr/>
        </p:nvPicPr>
        <p:blipFill>
          <a:blip r:embed="rId1"/>
          <a:stretch/>
        </p:blipFill>
        <p:spPr>
          <a:xfrm>
            <a:off x="0" y="0"/>
            <a:ext cx="9182160" cy="693432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4" descr=""/>
          <p:cNvPicPr/>
          <p:nvPr/>
        </p:nvPicPr>
        <p:blipFill>
          <a:blip r:embed="rId2"/>
          <a:stretch/>
        </p:blipFill>
        <p:spPr>
          <a:xfrm>
            <a:off x="2286000" y="3170160"/>
            <a:ext cx="6864480" cy="3498840"/>
          </a:xfrm>
          <a:prstGeom prst="rect">
            <a:avLst/>
          </a:prstGeom>
          <a:ln w="0">
            <a:noFill/>
          </a:ln>
        </p:spPr>
      </p:pic>
      <p:grpSp>
        <p:nvGrpSpPr>
          <p:cNvPr id="222" name="Rectangle 7"/>
          <p:cNvGrpSpPr/>
          <p:nvPr/>
        </p:nvGrpSpPr>
        <p:grpSpPr>
          <a:xfrm>
            <a:off x="2700360" y="884160"/>
            <a:ext cx="5164200" cy="1517760"/>
            <a:chOff x="2700360" y="884160"/>
            <a:chExt cx="5164200" cy="1517760"/>
          </a:xfrm>
        </p:grpSpPr>
        <p:pic>
          <p:nvPicPr>
            <p:cNvPr id="223" name="Rectangle 7" descr=""/>
            <p:cNvPicPr/>
            <p:nvPr/>
          </p:nvPicPr>
          <p:blipFill>
            <a:blip r:embed="rId3"/>
            <a:stretch/>
          </p:blipFill>
          <p:spPr>
            <a:xfrm>
              <a:off x="2700360" y="884160"/>
              <a:ext cx="516420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786040" y="928800"/>
              <a:ext cx="500076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ffff"/>
                  </a:solidFill>
                  <a:latin typeface="Verdana"/>
                </a:rPr>
                <a:t>Reliable and valid se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Right Arrow 8"/>
          <p:cNvGrpSpPr/>
          <p:nvPr/>
        </p:nvGrpSpPr>
        <p:grpSpPr>
          <a:xfrm>
            <a:off x="55440" y="1816200"/>
            <a:ext cx="3022560" cy="1871640"/>
            <a:chOff x="55440" y="1816200"/>
            <a:chExt cx="3022560" cy="1871640"/>
          </a:xfrm>
        </p:grpSpPr>
        <p:pic>
          <p:nvPicPr>
            <p:cNvPr id="226" name="Right Arrow 8" descr=""/>
            <p:cNvPicPr/>
            <p:nvPr/>
          </p:nvPicPr>
          <p:blipFill>
            <a:blip r:embed="rId4"/>
            <a:stretch/>
          </p:blipFill>
          <p:spPr>
            <a:xfrm>
              <a:off x="55440" y="1816200"/>
              <a:ext cx="30225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42920" y="2286000"/>
              <a:ext cx="24289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ffff"/>
                  </a:solidFill>
                  <a:latin typeface="Verdana"/>
                </a:rPr>
                <a:t>September 2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766800"/>
            <a:ext cx="8115120" cy="14479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Behavioural Interviews or Targeted Selection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57120" y="2214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st behaviour predicts future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tical compe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ardised behavioural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ctical rather than hypothetical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tell me a time when you were working with a co-worker who was performing below standard. How did you deal with this person. What was the eventual outcome of your interven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Oval 4"/>
          <p:cNvSpPr/>
          <p:nvPr/>
        </p:nvSpPr>
        <p:spPr>
          <a:xfrm>
            <a:off x="6019920" y="6019920"/>
            <a:ext cx="1600200" cy="761760"/>
          </a:xfrm>
          <a:prstGeom prst="ellipse">
            <a:avLst/>
          </a:prstGeom>
          <a:solidFill>
            <a:srgbClr val="9f29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imes New Roman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5"/>
          <p:cNvSpPr/>
          <p:nvPr/>
        </p:nvSpPr>
        <p:spPr>
          <a:xfrm>
            <a:off x="7243920" y="1785960"/>
            <a:ext cx="182880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5840" y="785880"/>
            <a:ext cx="7854840" cy="9079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ffff"/>
                </a:solidFill>
                <a:latin typeface="Verdana"/>
              </a:rPr>
              <a:t>Questioning skills</a:t>
            </a:r>
            <a:endParaRPr b="1" lang="en-US" sz="5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20268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Questioning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ide on the order of questions in adv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ce the interview and a mainta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with easier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selection cri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e from general to the specif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e one topic (criteria) at a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no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2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32040" y="714240"/>
            <a:ext cx="6997680" cy="765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Verdana"/>
              </a:rPr>
              <a:t>Interview techniques</a:t>
            </a: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52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open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closed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clear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ambiguous or leading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relevant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one question at a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5286240" y="1500120"/>
            <a:ext cx="2438640" cy="2514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14240" y="956880"/>
            <a:ext cx="7715520" cy="685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mmon interview proble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3280" y="2526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pla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 good selection                           techn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organis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fores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logical sequ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bility to select what is releva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5943600" y="1828800"/>
            <a:ext cx="2819520" cy="32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8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6848640" cy="5904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at distractions can occur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28760" y="245736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ide disturb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ntrating on what                                         to say rather than liste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ive attention                                             (we choose to not hear                                  something we don’t want 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developed listening and questioning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6095880" y="1143000"/>
            <a:ext cx="2286000" cy="335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1036440"/>
            <a:ext cx="7926120" cy="67788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lockers to effective listen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3280" y="20268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already know what you are going to say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’ll get my response ready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’m waiting to get my next question in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urry up, I don’t have much time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’m not going to change my min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is what you should do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have no interest in what you are saying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mpression am I I making here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seudo liste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072640" cy="71424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Non-verbal Communication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37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ceptions are cre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impressions throu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s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ths and belong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gu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o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ture and body mo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al expre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ye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4" descr="C:\My Documents\My Pictures\winslet.jpg"/>
          <p:cNvPicPr/>
          <p:nvPr/>
        </p:nvPicPr>
        <p:blipFill>
          <a:blip r:embed="rId1"/>
          <a:stretch/>
        </p:blipFill>
        <p:spPr>
          <a:xfrm>
            <a:off x="5911920" y="1523880"/>
            <a:ext cx="3079800" cy="4953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4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79" dur="20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50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terview Strategies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09280" y="21002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ss int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rank and friendly int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spiratorial strate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weet and sour strate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ell and tell strate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ell and listen strate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6553080" y="3505320"/>
            <a:ext cx="2286000" cy="3047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2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9680" y="663480"/>
            <a:ext cx="8001000" cy="836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Recruitment &amp; Selection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Picture 3" descr="C:\My Documents\Accosted.gif"/>
          <p:cNvPicPr/>
          <p:nvPr/>
        </p:nvPicPr>
        <p:blipFill>
          <a:blip r:embed="rId1"/>
          <a:stretch/>
        </p:blipFill>
        <p:spPr>
          <a:xfrm>
            <a:off x="1782720" y="1571760"/>
            <a:ext cx="5576760" cy="485748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4"/>
          <p:cNvSpPr/>
          <p:nvPr/>
        </p:nvSpPr>
        <p:spPr>
          <a:xfrm>
            <a:off x="5715000" y="2514600"/>
            <a:ext cx="3048120" cy="1676520"/>
          </a:xfrm>
          <a:prstGeom prst="wedgeRoundRectCallout">
            <a:avLst>
              <a:gd name="adj1" fmla="val -87708"/>
              <a:gd name="adj2" fmla="val 1011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a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a and a good variety of questions  …. OK Bo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183520" cy="1050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The stress interview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ows applicants reactions under str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be suited to high pressure job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 valid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786200" y="19288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s skilled interview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alienate the applic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not relevant to many pos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give the company a poor im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183520" cy="693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structured interview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1424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en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me effici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sier applicant comparis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re professio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reas cove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00720" y="20289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lack 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 may domin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nt may be overwhelmed by ques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etimes hard to answ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1" dur="20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183520" cy="693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unstructured interviewed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nt may be more relax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be tailored to the individ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sier to probe lea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00360" y="1981080"/>
            <a:ext cx="40719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rder to 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miss important a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rder to compare applica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7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3880" y="713880"/>
            <a:ext cx="7543800" cy="80964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ffective interviewing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219320" y="16002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 the jo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 the personal attributes, experience, skills and qualifications need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 the resume or application 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 specific objec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eate a good interview enviro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n the interview proced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ware of prejud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n’t make snap deci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llow up the inter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intain or enhance self-este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6477120" y="3962520"/>
            <a:ext cx="2209680" cy="2514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57160" y="735120"/>
            <a:ext cx="6786720" cy="83664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Verdana"/>
              </a:rPr>
              <a:t>Questioning Skills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0040" y="1642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sed ques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icit yes/no or brief factual answ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. do you have a drivers licens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 ended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 answers with more deta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how did you achieve these results? 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kind of responsibilities did you hav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did the incident occu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7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9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0440" y="928800"/>
            <a:ext cx="6640560" cy="83664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Verdana"/>
              </a:rPr>
              <a:t>Questioning skills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1955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ing ques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a counter to a closed or general answer can be used to elicit further information, 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question – “ How did you react to the takeover?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answer – “Fin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ing question – “ how did the organisational changes affect your work responsi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05:35:58Z</dcterms:created>
  <dc:creator>John McDonald</dc:creator>
  <dc:description/>
  <dc:language>en-US</dc:language>
  <cp:lastModifiedBy>jmcdonald2</cp:lastModifiedBy>
  <dcterms:modified xsi:type="dcterms:W3CDTF">2010-08-20T07:31:25Z</dcterms:modified>
  <cp:revision>14</cp:revision>
  <dc:subject/>
  <dc:title>Interview Strategies</dc:title>
</cp:coreProperties>
</file>